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451-1567-48FF-8046-0AE60DDF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CB9-E512-49E3-A752-F7ADFD2C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5A2-83C2-434A-92DD-67CF8CC2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13E-E1CB-4167-B76F-02A372DF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5C5-4E90-463A-9155-DEA22CA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5FB-0329-4423-BB56-C2129457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D14-60BF-4698-B4F0-9664EC3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9A2-927C-4A3F-81C1-05CD27B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8AC-5C46-466F-9AF6-366C552F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B44-C8E4-41D7-95FC-B053313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1DD-18B9-4365-A5B2-6FACD233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0FC-B48B-4670-B71B-9D6C6BD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6DA8-87AF-4C80-A02E-CBA14C8C1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612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DE VALMONT Char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6960" y="640080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FERGUSON Alexa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6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So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HP, client autorisé</cp:lastModifiedBy>
  <dcterms:modified xsi:type="dcterms:W3CDTF">2001-12-02T02:01:01Z</dcterms:modified>
  <cp:revision>12</cp:revision>
  <dc:subject/>
  <dc:title>Présentation PowerPoint</dc:title>
</cp:coreProperties>
</file>